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5.wmf" ContentType="image/x-wmf"/>
  <Override PartName="/ppt/media/image1.jpeg" ContentType="image/jpeg"/>
  <Override PartName="/ppt/media/image2.wmf" ContentType="image/x-wmf"/>
  <Override PartName="/ppt/media/image3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F218E-F692-4373-8D5D-854BFCF1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6D965-3CD9-45BC-BFD2-C31DC8B5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2685F-846E-4C66-B2C2-3302355D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6F290-E10D-42E1-BBE4-DA726B54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9B969-EF7B-453C-BBCD-B2E6FD65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459F1-923C-4AAD-A15D-A25A3A42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97BDF-BAAD-424C-82FD-CD05C42F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EECA0-0AEF-43E5-BA71-612671E3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47D4C-B300-44FA-807E-70ED3DC1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37900-2BD6-442D-BB9A-E45E265C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4B93E-9F92-482B-A463-6FC2CA67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A774E-D1EB-4106-AB1B-65AA0EE5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A67D2-65D7-4B87-98C1-6C192DBD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750D2-EEE4-41F3-A4BE-746D8C2A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D463D-9E64-4763-AB27-FD5834ED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2C7B8-F227-471C-8155-8198DBCE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96330-CD98-4E02-B856-59924236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C9DA5-AC4F-495B-B7A9-19A4031C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FECE8-9936-4571-80D9-36E144D9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DD6E2-9D01-4F4E-9B2E-D3D52D94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07E70-55AA-4C6A-873D-0CF82C89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5F88C-7C3B-43E4-A738-A1CF0CFB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BE132-62DD-453A-B05D-D1ECE011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D0300-1C37-4290-BAD4-2D306087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D58D7-001E-4D39-A92A-14E1F8B2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76CD-7EFB-44A7-A183-CF955C5B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1EA6-A518-49FA-BB78-9C0E32F5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6B56-20B8-460B-838C-9339A963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D0CB-867A-4EDE-9DFF-2BE1BAF4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4F17-870E-487E-BA54-A69B345A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A217-E7DD-4EDF-B52E-B28EA6F1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12AB-4BF5-471A-A471-970D99DB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C881A-34CE-4A0D-A49A-A7B6E226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E6B3-06C7-4FC6-AD7E-2CB2EFE6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EDE1-48BE-4C36-9FDC-6A2AC15E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39D2-4FE0-4C0B-A58B-1B773B96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98E5-9CAE-462C-9282-7596524F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6E03-C03B-480E-BDD8-61A82CF3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56298-17A9-45D8-B05B-12985C0C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FC738-474B-497E-B0AC-66C622E0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43957-D93B-4297-AC7E-8A834062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1DCBF-556C-475B-9CA9-CD0E05D4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3D830-52F8-4D02-AC04-7BE59838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A0C66-0D6A-4329-8E75-53D16B68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88E4A-3B55-488D-BC72-BF7253F2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DE4D-D7DD-4CC8-96C7-7F030D8B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7FFE0-6B35-474E-87D8-FFCF57DD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4CF23-E87F-42DF-8CA2-CDB08995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03077-7BF0-49C6-8A73-1373B757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3AF1B-0DD5-4F8B-8EB1-FA1A7F5B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55A9F-5F9D-4516-AE18-1E20B13F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E30A4-6F75-4981-8E65-7913BFEA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18BD0-516D-4CFE-95D0-CF78E2D7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10557-0FCA-45B5-9702-01E654DD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4107A-000E-4B6E-8E05-D3ABAD0D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02954-14F1-4D65-99BE-8A14CDB8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3F21A-0AF7-411E-8A9C-3E9B235A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B0F6F-3319-40FB-91C1-754865FF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4CBCE-5775-463D-80B9-5A6F853A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0E01D-6AED-4FED-822F-89C5F8BE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74705-5D76-4573-9580-50BCF619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FB3AB-7446-4DB4-B9CF-21676B56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E6784-C466-4730-A4BB-5DD2DBB6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79E44-3867-4FEE-8BB0-D09F4B18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80182-D144-4B02-BF56-3229A9D6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7F7AD-8BB7-493D-917D-52364FDD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467FE-AB1D-4EC8-8BD1-57098D77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C0870-97C7-495C-B09F-DF5E635B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2CE38-45BE-4C44-A2B3-346CFDC5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F889F-06A0-4CB5-AD05-EC35FEDD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1812C-DB18-4F81-9E82-01F6A9F0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3AFBB-FF28-4AA1-8828-6DB2C8A6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903C5-77CD-43CD-B6EF-65E29595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E44F1-AA9F-4FFD-980B-D9322BE5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AA1DB-82A2-4420-81DB-9A415C70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56D0A-DA48-431E-BEF9-DE2E69C8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AF07C-6EFE-457C-82A3-31176035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4191A-5756-4694-9178-DF09110E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AF00A-66C9-44FA-9EA4-6AF78BFC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34697-CD11-4806-9C83-E6302E4B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D5ADC-9907-4DA2-968A-D504E7F6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CA227-701E-44A6-8D4F-C313AF2F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67B38-19E5-46F9-8D22-76614F69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09213-F75B-4E39-A221-862A3032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0DFBC-90F6-47A4-86D3-38AF5DBA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EDB44-E29A-4F1A-8492-873E44CC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AC792-B3D0-4703-8D6F-C090B78A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C55A2-EA77-4808-A2F8-6FFC14D9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169BD-5942-4765-AB08-ECC3EA64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C8EE6-6499-4423-B07A-60E991A7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D2545-EF44-42A9-9EB4-19F66F5C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A81D1-DCC7-4C6F-A5B0-768ABCF7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AF0F3-6D41-41F4-BF6A-EA5C48F2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685E3-7028-4A25-887C-F266482B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2A541-789C-441D-897C-97C29142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414BF-7D6B-4457-A073-D2D45B13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E17A3-9971-445E-9748-F4748692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28D8A-2DC7-4341-978F-8F10E622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0A736-E25B-4A97-9C39-B2978A1C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3380A-95C8-4243-92EB-4563B20D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ACC7D-6029-4530-B521-6EC59585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EFE5A-FD5E-4B6D-A181-5C86868D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18829-6D2A-46D2-A99A-D9C99697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9CD65-CDB0-4D05-AD6E-7BB87B7E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7FB12-228E-4CBC-8BCC-BDF819AF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92C11-724B-49B7-9380-B1B41310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62755-5E69-46BD-A44C-E45BF967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7C3B9-242E-4892-959B-8A0230C6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B4B75-0F3D-4830-A692-E25D3B02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BDCA-93D1-4610-9534-2B42A50C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934DD-8D75-4A00-8C61-F59920F4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687BB-F99E-409B-B7A2-2980FA76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05EA7-44BC-4382-ADB5-FAF0172D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81092-7FE3-4E3B-9216-31EDFF84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7406B-5F6A-4A3D-8BD3-8AA9A0A9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4554A-72A0-47CC-B488-98D5412F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A9CFC-8EE7-4A0A-B2E8-536F53BE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6A5AC-BBAC-4265-9688-5C6B8A97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13F8D-A04F-497C-924E-AE9B87B5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B560F-8B96-4B4D-8B45-1407D153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09.xml"/><Relationship Id="rId32" Type="http://schemas.openxmlformats.org/officeDocument/2006/relationships/slideLayout" Target="../slideLayouts/slideLayout110.xml"/><Relationship Id="rId33" Type="http://schemas.openxmlformats.org/officeDocument/2006/relationships/slideLayout" Target="../slideLayouts/slideLayout111.xml"/><Relationship Id="rId34" Type="http://schemas.openxmlformats.org/officeDocument/2006/relationships/slideLayout" Target="../slideLayouts/slideLayout112.xml"/><Relationship Id="rId35" Type="http://schemas.openxmlformats.org/officeDocument/2006/relationships/slideLayout" Target="../slideLayouts/slideLayout113.xml"/><Relationship Id="rId36" Type="http://schemas.openxmlformats.org/officeDocument/2006/relationships/slideLayout" Target="../slideLayouts/slideLayout114.xml"/><Relationship Id="rId37" Type="http://schemas.openxmlformats.org/officeDocument/2006/relationships/slideLayout" Target="../slideLayouts/slideLayout115.xml"/><Relationship Id="rId38" Type="http://schemas.openxmlformats.org/officeDocument/2006/relationships/slideLayout" Target="../slideLayouts/slideLayout116.xml"/><Relationship Id="rId39" Type="http://schemas.openxmlformats.org/officeDocument/2006/relationships/slideLayout" Target="../slideLayouts/slideLayout117.xml"/><Relationship Id="rId40" Type="http://schemas.openxmlformats.org/officeDocument/2006/relationships/slideLayout" Target="../slideLayouts/slideLayout118.xml"/><Relationship Id="rId41" Type="http://schemas.openxmlformats.org/officeDocument/2006/relationships/slideLayout" Target="../slideLayouts/slideLayout119.xml"/><Relationship Id="rId42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BB48-1D50-4A89-8BA6-BF69BF60CB6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5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5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6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7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7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9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DED3-BA86-4E8F-A9E0-186660377E5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1"/>
    <p:sldLayoutId id="2147483767" r:id="rId32"/>
    <p:sldLayoutId id="2147483768" r:id="rId33"/>
    <p:sldLayoutId id="2147483769" r:id="rId34"/>
    <p:sldLayoutId id="2147483770" r:id="rId35"/>
    <p:sldLayoutId id="2147483771" r:id="rId36"/>
    <p:sldLayoutId id="2147483772" r:id="rId37"/>
    <p:sldLayoutId id="2147483773" r:id="rId38"/>
    <p:sldLayoutId id="2147483774" r:id="rId39"/>
    <p:sldLayoutId id="2147483775" r:id="rId40"/>
    <p:sldLayoutId id="2147483776" r:id="rId41"/>
    <p:sldLayoutId id="2147483777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73EE-68C5-4494-BC3F-4975660F2F9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4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F0A0-E2AA-454D-8EEC-E7029046A25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1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2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45C7-4020-4659-A95A-56C346C64EA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7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BA73-1737-4B21-9A7A-FB4B655A5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2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D825-352E-4DEC-BAAC-F36CFED8D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B996-682F-4DC6-95B8-6EEF357A1B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7997-0A5B-4F9A-8AA2-FAAB8AD05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5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5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5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6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6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6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7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7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9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AECA-15B5-46EA-8CB5-9B0045EBDD1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atalogo De Rop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 Nick Riordan y Jared O'Bri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Primavera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2438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itlin lleva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amise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n mangas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antelones cort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binado y muchos col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1674720" cy="237168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 rot="20457000">
            <a:off x="6705360" y="1371600"/>
            <a:ext cx="1990440" cy="281952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 rot="7952400">
            <a:off x="4690800" y="3906720"/>
            <a:ext cx="45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638680" y="4638600"/>
            <a:ext cx="1524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lejandra lleva la falda negra y blanca. Tambien lleva la camiseta  con muchos colores y una pulsera de muchos colores. Tambien lleva  un collar azu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Verano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 rot="1351800">
            <a:off x="2496960" y="1530360"/>
            <a:ext cx="1830600" cy="259092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2666880" y="16765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791320" y="160020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a lleva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amiset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in mang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on muchos colores,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antalones corto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de blue jeans. Tamb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 lleva mucha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ulsera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 muchos col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 rot="19816800">
            <a:off x="6400440" y="3962520"/>
            <a:ext cx="1728720" cy="259056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2286000" y="4952880"/>
            <a:ext cx="358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ose lleva 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raj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egro y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orbat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egra. Tambien lleva 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intur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ó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negro y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camis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blanca. Tambien lleva lo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aret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 negr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Invier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9" name="" descr="Wet Seal Outerwear"/>
          <p:cNvPicPr/>
          <p:nvPr/>
        </p:nvPicPr>
        <p:blipFill>
          <a:blip r:embed="rId2"/>
          <a:stretch/>
        </p:blipFill>
        <p:spPr>
          <a:xfrm>
            <a:off x="228600" y="1828800"/>
            <a:ext cx="1927080" cy="335268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2514600" y="19810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ulia lleva l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bufand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egra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amiset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jo. Tambien lleva 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uet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lanco y neg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3"/>
          <a:stretch/>
        </p:blipFill>
        <p:spPr>
          <a:xfrm>
            <a:off x="6248520" y="1295280"/>
            <a:ext cx="2087280" cy="270684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6553080" y="43434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rolina lleva l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ijam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osada y Lo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zapatill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muchos col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 rot="1551000">
            <a:off x="228240" y="2361960"/>
            <a:ext cx="1828800" cy="172404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 rot="19725600">
            <a:off x="7086600" y="2057040"/>
            <a:ext cx="1584360" cy="182880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 rot="21210600">
            <a:off x="3657600" y="5029200"/>
            <a:ext cx="1827360" cy="146052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152280" y="502920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ahoma"/>
              </a:rPr>
              <a:t>Elvis lleva las </a:t>
            </a:r>
            <a:r>
              <a:rPr b="0" lang="en-US" sz="1800" spc="-1" strike="noStrike" u="sng">
                <a:solidFill>
                  <a:srgbClr val="2f1311"/>
                </a:solidFill>
                <a:uFillTx/>
                <a:latin typeface="Tahoma"/>
              </a:rPr>
              <a:t>gafas de sol</a:t>
            </a:r>
            <a:r>
              <a:rPr b="0" lang="en-US" sz="1800" spc="-1" strike="noStrike">
                <a:solidFill>
                  <a:srgbClr val="2f1311"/>
                </a:solidFill>
                <a:latin typeface="Tahoma"/>
              </a:rPr>
              <a:t> blancas y los </a:t>
            </a:r>
            <a:r>
              <a:rPr b="0" lang="en-US" sz="1800" spc="-1" strike="noStrike" u="sng">
                <a:solidFill>
                  <a:srgbClr val="2f1311"/>
                </a:solidFill>
                <a:uFillTx/>
                <a:latin typeface="Tahoma"/>
              </a:rPr>
              <a:t>guantes</a:t>
            </a:r>
            <a:r>
              <a:rPr b="0" lang="en-US" sz="1800" spc="-1" strike="noStrike">
                <a:solidFill>
                  <a:srgbClr val="2f1311"/>
                </a:solidFill>
                <a:latin typeface="Tahoma"/>
              </a:rPr>
              <a:t> blan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352680" y="30481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ahoma"/>
              </a:rPr>
              <a:t>Migeul lleva la gorra rojo y azu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934320" y="4495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Tahoma"/>
              </a:rPr>
              <a:t>Antonio lleva el sombrero moreno y roj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dios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8:15:25Z</dcterms:created>
  <dc:creator>riordannic</dc:creator>
  <dc:description/>
  <dc:language>en-US</dc:language>
  <cp:lastModifiedBy>riordannic</cp:lastModifiedBy>
  <dcterms:modified xsi:type="dcterms:W3CDTF">2011-12-15T12:55:10Z</dcterms:modified>
  <cp:revision>16</cp:revision>
  <dc:subject/>
  <dc:title>Slide 1</dc:title>
</cp:coreProperties>
</file>